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1C40-92A7-4980-A0B2-14D631D95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– The key to a community of learners. The key to Making It Happen.   Real talk equals real results.  Good for students, good for adults.   Classroom and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 SMART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 conn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ar up for mid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P student performance and Midterms – form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Bring your APPR goals and we will refine at the faculty meeting to be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 of Mind – why we do what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 SMART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 conn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ar up for mid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P student performance and Midterms – form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Bring your APPR goals and we will refine at the faculty meeting to be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 of Mind – why we do what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F2C-BDC8-41D5-96EB-34FF0E4B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47C-A403-42C3-BCD6-2C3A0E45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CF5-A142-41C5-AF36-C84A9ED9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B24-F692-433F-9496-39D5CC56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165-0D9D-47AE-A762-F719402B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18A-06CB-4F65-9BD2-1AC560C0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09D-16EE-406A-BE7C-69AC058F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82C-A5CC-401C-8081-CFDAD400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458-AA97-42D5-B396-7D32D807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71D-1D7A-40F9-BC3E-5F2D1974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586-ABFD-4E0A-8E41-524C7D81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2C6-DF65-4942-8DDD-76B10162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7598-9591-49C0-B712-E1201DED2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North Rockland High Schoo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800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empus Sans ITC"/>
              </a:rPr>
              <a:t>Relationships in the 21</a:t>
            </a:r>
            <a:r>
              <a:rPr b="0" lang="en-US" sz="3600" spc="-1" strike="noStrike" baseline="30000">
                <a:solidFill>
                  <a:srgbClr val="009900"/>
                </a:solidFill>
                <a:latin typeface="Tempus Sans ITC"/>
              </a:rPr>
              <a:t>st</a:t>
            </a:r>
            <a:r>
              <a:rPr b="0" lang="en-US" sz="3600" spc="-1" strike="noStrike">
                <a:solidFill>
                  <a:srgbClr val="009900"/>
                </a:solidFill>
                <a:latin typeface="Tempus Sans ITC"/>
              </a:rPr>
              <a:t> Century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Tempus Sans ITC"/>
              </a:rPr>
              <a:t>2010-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41972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empus Sans ITC"/>
              </a:rPr>
              <a:t>Creativity and Inno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ork Creatively with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, implement and communicate new ideas to others eff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pen and responsive to new and diverse perspectives; incorporate group input and feedback into th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originality and inventiveness in work and understand the real world limits to adopting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failure as an opportunity to learn; understand that creativity and innovation is a long-term, cyclical process of small successes and frequent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empus Sans ITC"/>
              </a:rPr>
              <a:t>Creativity and Inno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mplement Inno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 on creative ideas to make a tangible and useful contribution to the field in which the innovation will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empus Sans ITC"/>
              </a:rPr>
              <a:t>CRITICAL THINKING AND 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son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various types of reasoning (inductive, deductive, etc.) as appropriate to the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se Systems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how parts of a whole interact with each other to produce overall outcomes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empus Sans ITC"/>
              </a:rPr>
              <a:t>CRITICAL THINKING AND 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ke Judgments and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ly analyze and evaluate evidence, arguments, claims and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and evaluate major alternative points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ze and make connections between information and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 information and draw conclusions based on the bes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critically on learning experience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lv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different kinds of non-familiar problems in both conventional and innovative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ask significant questions that clarify various points of view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to better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empus Sans ITC"/>
              </a:rPr>
              <a:t>COMMUNICATION AND 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municate Cl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ulate thoughts and ideas effectively using oral, written and nonverbal communication skills in a variety of forms and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effectively to decipher meaning, including knowledge, values, attitudes and int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mmunication for a range of purposes (e.g. to inform, instruct, motivate and persu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 multiple media and technologies, and know how to judge their effectiveness a priori as well as assess thei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effectively in diverse environments (including multi-ling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Guiding Question #3: How can we, the Professional Learning Community of NRHS, foster deeper relationships with each other?  What are we going to do to Make It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empus Sans ITC"/>
              </a:rPr>
              <a:t>COMMUNICATION AND 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llaborate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 ability to work effectively and respectfully with diverse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 flexibility and willingness to be helpful in making necessary compromises to accomplish a common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hared responsibility for collaborative work, and value the individual contributions made by each team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Tempus Sans ITC"/>
              </a:rPr>
              <a:t>The Future</a:t>
            </a:r>
            <a:r>
              <a:rPr b="0" lang="en-US" sz="4800" spc="-1" strike="noStrike">
                <a:solidFill>
                  <a:srgbClr val="008000"/>
                </a:solidFill>
                <a:latin typeface="Tempus Sans ITC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Guiding Question #4: What should a graduate of North Rockland High School know and be able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Faculty Meeting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September 16,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at are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Learning Skills?  How can we, the Professional Learning Community of NRHS, promote these skills in our curriculums, instruction and assessmen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Skills, 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ation: Information from The Partnership for 2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Skills at http://www.p21.org/index.php?option=com_content&amp;task=view&amp;id=254&amp;Itemid=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empus Sans ITC"/>
              </a:rPr>
              <a:t>Parent Teachers Students Association (PTS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, Membership,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31244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Faculty Meeting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September 16,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at are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Learning Skills?  How can we, the Professional Learning Community of NRHS, promote these skills in our curriculums, instruction and assessmen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Skills, 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ation: Information from The Partnership for 2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Skills at http://www.p21.org/index.php?option=com_content&amp;task=view&amp;id=254&amp;Itemid=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Well-Rounded Edu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not a question of content versus skills – it’s about creating challenging, profoundly engaging, and authentic educational experiences that produce lifelong learne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H. Her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Framework for 21</a:t>
            </a:r>
            <a:r>
              <a:rPr b="0" lang="en-US" sz="4000" spc="-1" strike="noStrike" baseline="30000">
                <a:solidFill>
                  <a:srgbClr val="008000"/>
                </a:solidFill>
                <a:latin typeface="Tempus Sans ITC"/>
              </a:rPr>
              <a:t>st</a:t>
            </a: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 Century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arning and Innovation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, Media and Technolog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fe and Career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Guiding Question #1:  What skills/tools do students need to be successful in the 21</a:t>
            </a:r>
            <a:r>
              <a:rPr b="1" i="1" lang="en-US" sz="3200" spc="-1" strike="noStrike" baseline="30000">
                <a:solidFill>
                  <a:srgbClr val="ff3300"/>
                </a:solidFill>
                <a:latin typeface="Arial"/>
              </a:rPr>
              <a:t>st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 cen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458200" cy="66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empus Sans ITC"/>
              </a:rPr>
              <a:t>Learning and Innovation Skil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and innovation skills are 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students who are prepa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ly complex life an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s in today’s world and 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re not.”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ship for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reativity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ritical Thinking and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mmunication and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empus Sans ITC"/>
              </a:rPr>
              <a:t>Vid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Skills: Promoting Creativity and Innovation in the Classro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D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empus Sans ITC"/>
              </a:rPr>
              <a:t>Creativity and Inno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wide range of idea creation techniques (such as brainstor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new and worthwhile ideas (both incremental and radical conce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, refine, analyze and evaluate their own ideas in order to improve and maximize creative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Guiding Question #2: What are you doing to foster these skills in your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18:33:52Z</dcterms:created>
  <dc:creator>North Rockland High School</dc:creator>
  <dc:description/>
  <dc:language>en-US</dc:language>
  <cp:lastModifiedBy>North Rockland High School</cp:lastModifiedBy>
  <dcterms:modified xsi:type="dcterms:W3CDTF">2010-08-17T18:18:57Z</dcterms:modified>
  <cp:revision>5</cp:revision>
  <dc:subject/>
  <dc:title>Make It Happen  2010-2011</dc:title>
</cp:coreProperties>
</file>